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5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27.jpeg" ContentType="image/jpeg"/>
  <Override PartName="/ppt/media/image6.jpeg" ContentType="image/jpeg"/>
  <Override PartName="/ppt/media/image8.png" ContentType="image/png"/>
  <Override PartName="/ppt/media/image15.gif" ContentType="image/gif"/>
  <Override PartName="/ppt/media/image5.jpeg" ContentType="image/jpeg"/>
  <Override PartName="/ppt/media/image11.gif" ContentType="image/gif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1A91-15F0-4919-B0C9-416FD6C9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CD4-42FE-4C3E-B6FF-F4376411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451-E2D7-45A6-B21C-809DC24D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F1A-29A4-4F86-A93C-A7B2D5DF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352E6-4C02-4F8B-848E-B1B03FF2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804CB-E4A5-4FCE-8DE4-A74DE390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E423C-0892-4B61-A8BA-513426EA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D2DA3-88BE-4509-9488-12C791AA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C97D9-735B-4134-92EE-E00E46EC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96BE6-7CF9-471A-B692-12EE95EE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9CC58-2D02-47AE-A57A-608FC3E4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A79-6A6F-4B25-98E4-6AE0D086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73CF8-D65C-40B0-B466-8DAF76F3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DEBD2-6072-49D5-B8F0-BB53173C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23097-ADE0-4C06-BC2A-465B521F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8ADF8-9A1C-4794-86D0-E5D84B97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71CF3-4407-4DBF-9673-A89B32FB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381-9DED-4583-B698-076B7098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2B1-FD7B-4742-A838-B0026F9C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46B-A233-4B34-9343-978EDED0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E50-A48B-46C7-AE7A-D3F00613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26F-C2F3-4767-AF41-F37DA9B3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B2F-5EA4-41EF-AFFC-99972896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85D-94D9-4093-B765-6EC617C5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0CE8-9E97-4166-B222-680BE7D06D4B}" type="slidenum">
              <a:rPr b="0" lang="es-V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orma libre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V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DB5C-59B1-4CBD-8040-201E03CADF00}" type="slidenum">
              <a:rPr b="0" lang="es-V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1 CuadroTexto"/>
          <p:cNvSpPr/>
          <p:nvPr/>
        </p:nvSpPr>
        <p:spPr>
          <a:xfrm>
            <a:off x="0" y="1052640"/>
            <a:ext cx="925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ahoma"/>
              </a:rPr>
              <a:t>Predicadores Laico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Tahoma"/>
              </a:rPr>
              <a:t>Unión Venezolana Oriental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PREPARACIÓN PARA COMENZAR A PREDICAR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Cuadro de texto 5"/>
          <p:cNvSpPr/>
          <p:nvPr/>
        </p:nvSpPr>
        <p:spPr>
          <a:xfrm>
            <a:off x="324000" y="2511360"/>
            <a:ext cx="860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TRABAJO MAS DIFÍCIL QUE DEMANDA LA PREDICACIÓN NO ES LA PREPARACIÓN DEL SERM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Cuadro de texto 6"/>
          <p:cNvSpPr/>
          <p:nvPr/>
        </p:nvSpPr>
        <p:spPr>
          <a:xfrm>
            <a:off x="250920" y="4869000"/>
            <a:ext cx="8675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NO LA PREPARACIÓN DEL PREDICAD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agen 7" descr="DSA9905"/>
          <p:cNvPicPr/>
          <p:nvPr/>
        </p:nvPicPr>
        <p:blipFill>
          <a:blip r:embed="rId1"/>
          <a:stretch/>
        </p:blipFill>
        <p:spPr>
          <a:xfrm>
            <a:off x="2843280" y="5200560"/>
            <a:ext cx="2151000" cy="16131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CONOZCASE A SÍ MISM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Cuadro de texto 4"/>
          <p:cNvSpPr/>
          <p:nvPr/>
        </p:nvSpPr>
        <p:spPr>
          <a:xfrm>
            <a:off x="468360" y="3573360"/>
            <a:ext cx="8675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ANDO UD DEBERÍA ESTAR ESTUDIANDO SU PROPIO CORAZÓN ESTA LEYENDO LIBROS. CUANDO DEBIERA ESTAR ACERCÁNDOSE MÁS A CRISTO POR LA FE, ESTA LEYENDO LIBROS. TODO SU ESTUDIO ES INÚTI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Cuadro de texto 5"/>
          <p:cNvSpPr/>
          <p:nvPr/>
        </p:nvSpPr>
        <p:spPr>
          <a:xfrm>
            <a:off x="611280" y="2708280"/>
            <a:ext cx="684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JO DE ELENA G. DE WH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Cuadro de texto 6"/>
          <p:cNvSpPr/>
          <p:nvPr/>
        </p:nvSpPr>
        <p:spPr>
          <a:xfrm>
            <a:off x="611280" y="1844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AL ES EL PROPOSITO AL PREDICAR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ODO SU ESTUDIO ES INÚTIL A MENOS QUE SE ESTUDIE FIELMENTE A SI MISMO.” TEST. T.1. 4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Imagen 4" descr="TEST04"/>
          <p:cNvPicPr/>
          <p:nvPr/>
        </p:nvPicPr>
        <p:blipFill>
          <a:blip r:embed="rId1"/>
          <a:stretch/>
        </p:blipFill>
        <p:spPr>
          <a:xfrm>
            <a:off x="2700360" y="3716280"/>
            <a:ext cx="4038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uadro de texto 4"/>
          <p:cNvSpPr/>
          <p:nvPr/>
        </p:nvSpPr>
        <p:spPr>
          <a:xfrm>
            <a:off x="395280" y="112536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N PREDICADOR ES ALGUIEN QUE CONOCE Y AMA A CRISTO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Cuadro de texto 6"/>
          <p:cNvSpPr/>
          <p:nvPr/>
        </p:nvSpPr>
        <p:spPr>
          <a:xfrm>
            <a:off x="612720" y="2708280"/>
            <a:ext cx="7488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GENTE SE IMPRESIONA MÁS POR LA PREDICACIÓN DE QUIEN ES VERDADERAMENTE BUENO, QUE POR LA PREDICACIÓN DE QUIEN ES MUY CAPAZ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Imagen 7" descr="bible1"/>
          <p:cNvPicPr/>
          <p:nvPr/>
        </p:nvPicPr>
        <p:blipFill>
          <a:blip r:embed="rId1"/>
          <a:stretch/>
        </p:blipFill>
        <p:spPr>
          <a:xfrm>
            <a:off x="3851280" y="5013360"/>
            <a:ext cx="237636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8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 POSIBLE QUE UD. NO SE SIENTA MUY CAPAZ, PERO A TRAVÉS DE CRISTO PUEDE LLEGAR A SER EXCELENTE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Imagen 4" descr="lectora"/>
          <p:cNvPicPr/>
          <p:nvPr/>
        </p:nvPicPr>
        <p:blipFill>
          <a:blip r:embed="rId1"/>
          <a:stretch/>
        </p:blipFill>
        <p:spPr>
          <a:xfrm>
            <a:off x="3708360" y="3811680"/>
            <a:ext cx="2158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NO HAY NADA MAS HUMILLANTE QUE VOLTEAR A MIRAR, EN MEDIO DEL SERMÓN, A SU FAMILIA Y COMPRENDER QUE ELLOS SABEN QUE UD. NO ESTA VIVIENDO LO QUE PREDICA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Imagen 4" descr="LOL"/>
          <p:cNvPicPr/>
          <p:nvPr/>
        </p:nvPicPr>
        <p:blipFill>
          <a:blip r:embed="rId1"/>
          <a:srcRect l="60144" t="61973" r="0" b="0"/>
          <a:stretch/>
        </p:blipFill>
        <p:spPr>
          <a:xfrm>
            <a:off x="3351240" y="3141720"/>
            <a:ext cx="2949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CONOZCA A SU SEÑ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ASTA QUE NO HAYAMOS ESTADO CON EL, NO ESTAREMOS PREPARADOS PARA PREDICAR ACERCA DE 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Imagen 4" descr="de Jesus"/>
          <p:cNvPicPr/>
          <p:nvPr/>
        </p:nvPicPr>
        <p:blipFill>
          <a:blip r:embed="rId1"/>
          <a:stretch/>
        </p:blipFill>
        <p:spPr>
          <a:xfrm>
            <a:off x="3059280" y="3716280"/>
            <a:ext cx="400680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CONOZCA LA BÍBL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86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ANDO SE LE ASIGNA UNA PREDICACIÓN, Y SIENTE QUE NO TIENE NADA QUE DECIR, EXAMÍNESE A SI MISMO, VERA QUE NO HA ESTADO ESTUDIANDO LA BÍBL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Imagen 4" descr="libros4"/>
          <p:cNvPicPr/>
          <p:nvPr/>
        </p:nvPicPr>
        <p:blipFill>
          <a:blip r:embed="rId1"/>
          <a:stretch/>
        </p:blipFill>
        <p:spPr>
          <a:xfrm>
            <a:off x="3492360" y="4149720"/>
            <a:ext cx="30877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LOS PREDICADORES CREEN EN LOS HECHOS DE LA BÍBLIC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19384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PREDICADORES BÍBLICOS AMAN DEMASIADO LA BÍBLICA PARA USARLA SIMPLEMENTE COMO  APOYO DE SUS PROPIAS IDE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Imagen 4" descr="escritorio"/>
          <p:cNvPicPr/>
          <p:nvPr/>
        </p:nvPicPr>
        <p:blipFill>
          <a:blip r:embed="rId1"/>
          <a:stretch/>
        </p:blipFill>
        <p:spPr>
          <a:xfrm>
            <a:off x="4211640" y="3860640"/>
            <a:ext cx="365904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Cuadro de texto 4"/>
          <p:cNvSpPr/>
          <p:nvPr/>
        </p:nvSpPr>
        <p:spPr>
          <a:xfrm>
            <a:off x="108000" y="76500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SAFORTUNADAMENTE LOS PREDICADORES TÍPICOS DECIDEN PRIMERO LO QUE QUIEREN DECIR, Y LUEGO VAN A LA BIBLIA EN BUSCA DE APOY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Cuadro de texto 5"/>
          <p:cNvSpPr/>
          <p:nvPr/>
        </p:nvSpPr>
        <p:spPr>
          <a:xfrm>
            <a:off x="1546200" y="3213000"/>
            <a:ext cx="66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IMERO LA BIBL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Imagen 6" descr="educar"/>
          <p:cNvPicPr/>
          <p:nvPr/>
        </p:nvPicPr>
        <p:blipFill>
          <a:blip r:embed="rId1"/>
          <a:stretch/>
        </p:blipFill>
        <p:spPr>
          <a:xfrm>
            <a:off x="1917720" y="4508640"/>
            <a:ext cx="55339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n 8" descr="Comparison of 4 prophetsB"/>
          <p:cNvPicPr/>
          <p:nvPr/>
        </p:nvPicPr>
        <p:blipFill>
          <a:blip r:embed="rId1"/>
          <a:stretch/>
        </p:blipFill>
        <p:spPr>
          <a:xfrm>
            <a:off x="4073400" y="0"/>
            <a:ext cx="50706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¿ POR QUE PREDICACIÓN LAICA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Cuadro de texto 5"/>
          <p:cNvSpPr/>
          <p:nvPr/>
        </p:nvSpPr>
        <p:spPr>
          <a:xfrm>
            <a:off x="250920" y="4581360"/>
            <a:ext cx="842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 HAY LUCHA ENTRE LOS MIEMBROS DE SU IGLESIA ,ALIMENTE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Cuadro de texto 6"/>
          <p:cNvSpPr/>
          <p:nvPr/>
        </p:nvSpPr>
        <p:spPr>
          <a:xfrm>
            <a:off x="252360" y="3573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ANIMALES HAMBRIENTO PEL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Cuadro de texto 7"/>
          <p:cNvSpPr/>
          <p:nvPr/>
        </p:nvSpPr>
        <p:spPr>
          <a:xfrm>
            <a:off x="250920" y="2205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UANDO ACABAN DE COMER ESTÁN EN PAZ, CUANDO TIENEN HAMBRE MA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EL USO CORRECTO DEL ESPÍRITU DE PROFECÍ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IENCE SU ESTUDIO EN LA BIBLIA, Y PERMANEZCA ALLÍ HASTA QUE HAYA ESPIGADO TODO LO QUE PUEDA. VEA CUANTA LUZ DERRAMAN SUS LIBROS SOBRE ESE PASAJE. VAYA AL PÚLPITO Y PREDIQUE DE LA BIBLIA.     G. WHI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Imagen 4" descr="libros2a"/>
          <p:cNvPicPr/>
          <p:nvPr/>
        </p:nvPicPr>
        <p:blipFill>
          <a:blip r:embed="rId1"/>
          <a:stretch/>
        </p:blipFill>
        <p:spPr>
          <a:xfrm>
            <a:off x="4067280" y="4959360"/>
            <a:ext cx="21542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SERMÓN EXPOSITIVO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Cuadro de texto 4"/>
          <p:cNvSpPr/>
          <p:nvPr/>
        </p:nvSpPr>
        <p:spPr>
          <a:xfrm>
            <a:off x="539640" y="173052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 EL QUE SE BASA EN LA EXPOSICIÓN O EXPLICACIÓN DE TRES O MÁS VERSÍCULO DE ESCRITU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Cuadro de texto 5"/>
          <p:cNvSpPr/>
          <p:nvPr/>
        </p:nvSpPr>
        <p:spPr>
          <a:xfrm>
            <a:off x="539640" y="351468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UCHAS VECES EL TEXTO ES UN PÁRRAFO DE ESCRITU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Cuadro de texto 6"/>
          <p:cNvSpPr/>
          <p:nvPr/>
        </p:nvSpPr>
        <p:spPr>
          <a:xfrm>
            <a:off x="468360" y="5070600"/>
            <a:ext cx="79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OCASIONES HASTA UN CAPI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FORTALEZ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 POSIBLE QUE SEA EL MEJOR TIPO DE PREDICACIÓN PARA LOS PREDICADORES LAICOS. ES POR LO GENERAL BASTANTE BÍBL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Imagen 4" descr="lector"/>
          <p:cNvPicPr/>
          <p:nvPr/>
        </p:nvPicPr>
        <p:blipFill>
          <a:blip r:embed="rId1"/>
          <a:stretch/>
        </p:blipFill>
        <p:spPr>
          <a:xfrm>
            <a:off x="3276720" y="3863880"/>
            <a:ext cx="3033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DEBILIDA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Cuadro de texto 4"/>
          <p:cNvSpPr/>
          <p:nvPr/>
        </p:nvSpPr>
        <p:spPr>
          <a:xfrm>
            <a:off x="324000" y="198900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PREDICADORES DE SERMONES EXPOSITIVOS SE VEN TENTADOS A ENFATIZAR MAS LA EXPLICACIÓN QUE LA PALI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Cuadro de texto 5"/>
          <p:cNvSpPr/>
          <p:nvPr/>
        </p:nvSpPr>
        <p:spPr>
          <a:xfrm>
            <a:off x="216000" y="4437000"/>
            <a:ext cx="8243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no permita que su congregación pase la mañana en Palestina, ninguno de ellos vive allí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SERMÓN TEMÁTI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256536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 AQUEL EN EL CUAL SE ELIGE UN TEMA Y LUEGO SE ESTUDIA TODA LA BIBLIA PARA VER LO QUE DICE ACERCA DEL MISM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Imagen 5" descr="thumb38"/>
          <p:cNvPicPr/>
          <p:nvPr/>
        </p:nvPicPr>
        <p:blipFill>
          <a:blip r:embed="rId1"/>
          <a:stretch/>
        </p:blipFill>
        <p:spPr>
          <a:xfrm>
            <a:off x="4788000" y="42926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FORTALEZ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19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ENFOQUE TEMÁTICO REQUIERE UN ANÁLISIS DE TODA LA BIBLIA. UN POQUITO ALLÍ, Y OTRO POQUITO ALLÁ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Imagen 4" descr="biblia"/>
          <p:cNvPicPr/>
          <p:nvPr/>
        </p:nvPicPr>
        <p:blipFill>
          <a:blip r:embed="rId1"/>
          <a:stretch/>
        </p:blipFill>
        <p:spPr>
          <a:xfrm>
            <a:off x="2700360" y="3166920"/>
            <a:ext cx="49212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DEBILIDA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Cuadro de texto 4"/>
          <p:cNvSpPr/>
          <p:nvPr/>
        </p:nvSpPr>
        <p:spPr>
          <a:xfrm>
            <a:off x="324000" y="2454120"/>
            <a:ext cx="860400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A PREDICACIÓN TIENDE A LLEVARNOS A USAR LOS TEXTO FUERA DE CONTEXTO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Cuadro de texto 5"/>
          <p:cNvSpPr/>
          <p:nvPr/>
        </p:nvSpPr>
        <p:spPr>
          <a:xfrm>
            <a:off x="287280" y="4006800"/>
            <a:ext cx="810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AY POCO TIEMPO PARA ESTUDIAR EL MARCO HISTÓRICO DE LOS TEX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PREDICACIÓN NARRATIVA O BIOGRÁF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84284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CENTRA NORMALMENTE EN LA VIDA DE UN PERSONAJE O INCIDENTE DE LA BIBL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Imagen 4" descr="PROFETAS"/>
          <p:cNvPicPr/>
          <p:nvPr/>
        </p:nvPicPr>
        <p:blipFill>
          <a:blip r:embed="rId1"/>
          <a:srcRect l="0" t="0" r="16325" b="11109"/>
          <a:stretch/>
        </p:blipFill>
        <p:spPr>
          <a:xfrm>
            <a:off x="6095880" y="3376440"/>
            <a:ext cx="2579760" cy="3456000"/>
          </a:xfrm>
          <a:prstGeom prst="rect">
            <a:avLst/>
          </a:prstGeom>
          <a:ln w="0">
            <a:noFill/>
          </a:ln>
        </p:spPr>
      </p:pic>
      <p:pic>
        <p:nvPicPr>
          <p:cNvPr id="169" name="Imagen 5" descr="DANIEL COMIDA"/>
          <p:cNvPicPr/>
          <p:nvPr/>
        </p:nvPicPr>
        <p:blipFill>
          <a:blip r:embed="rId2"/>
          <a:srcRect l="0" t="0" r="8365" b="7807"/>
          <a:stretch/>
        </p:blipFill>
        <p:spPr>
          <a:xfrm>
            <a:off x="3287880" y="3376440"/>
            <a:ext cx="2724120" cy="3456000"/>
          </a:xfrm>
          <a:prstGeom prst="rect">
            <a:avLst/>
          </a:prstGeom>
          <a:ln w="0">
            <a:noFill/>
          </a:ln>
        </p:spPr>
      </p:pic>
      <p:pic>
        <p:nvPicPr>
          <p:cNvPr id="170" name="Imagen 6" descr="SALOMÉ"/>
          <p:cNvPicPr/>
          <p:nvPr/>
        </p:nvPicPr>
        <p:blipFill>
          <a:blip r:embed="rId3"/>
          <a:srcRect l="0" t="0" r="8365" b="5944"/>
          <a:stretch/>
        </p:blipFill>
        <p:spPr>
          <a:xfrm>
            <a:off x="519120" y="3357720"/>
            <a:ext cx="2684520" cy="34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FORTALEZ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FATIZA LA RELIGIÓN NO COMO TEORÍA SINO COMO VIVENC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Imagen 4" descr="JESUS Y MUJER"/>
          <p:cNvPicPr/>
          <p:nvPr/>
        </p:nvPicPr>
        <p:blipFill>
          <a:blip r:embed="rId1"/>
          <a:stretch/>
        </p:blipFill>
        <p:spPr>
          <a:xfrm>
            <a:off x="2836800" y="3500280"/>
            <a:ext cx="41115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DEBILIDA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90400" y="184464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FORMA  ATRACTIVA DEL SERMÓN NARRATIVO O BIOGRÁFICO, PERMITE QUE SUS OYENTES VAYAN A SUS HOGARES DIVERTIDOS PERO NO ILUMIN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Imagen 5" descr="NEGRITAS"/>
          <p:cNvPicPr/>
          <p:nvPr/>
        </p:nvPicPr>
        <p:blipFill>
          <a:blip r:embed="rId1"/>
          <a:stretch/>
        </p:blipFill>
        <p:spPr>
          <a:xfrm>
            <a:off x="4356000" y="4076640"/>
            <a:ext cx="31878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Imagen 7" descr="gran ejer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LA PREDICACIÓN LAICA EN LOS TIEMPOS DEL NUEVO TESTAMENT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Cuadro de texto 4"/>
          <p:cNvSpPr/>
          <p:nvPr/>
        </p:nvSpPr>
        <p:spPr>
          <a:xfrm>
            <a:off x="468360" y="486900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APÓSTOLES ERAN HOMBRES DE TRABAJO, SU ÚNICO ENTRENAMIENTO LO HABÍAN ADQUIRIDO EN LA PRACTIC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Cuadro de texto 5"/>
          <p:cNvSpPr/>
          <p:nvPr/>
        </p:nvSpPr>
        <p:spPr>
          <a:xfrm>
            <a:off x="503280" y="3573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NI JESÚS TUVO UNA PREPARACIÓN TEOLÓGICA FORM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Cuadro de texto 6"/>
          <p:cNvSpPr/>
          <p:nvPr/>
        </p:nvSpPr>
        <p:spPr>
          <a:xfrm>
            <a:off x="539640" y="234936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CRISTIANISMO COMENZÓ CON UN MOVIMIENTO LA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SERMON TEXTU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 AQUEL QUE SE BASA EN UNO O DOS VERSÍCULO DE LA BIBL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Imagen 4" descr="0901005X"/>
          <p:cNvPicPr/>
          <p:nvPr/>
        </p:nvPicPr>
        <p:blipFill>
          <a:blip r:embed="rId1"/>
          <a:srcRect l="27336" t="22285" r="23547" b="39947"/>
          <a:stretch/>
        </p:blipFill>
        <p:spPr>
          <a:xfrm>
            <a:off x="1835280" y="3284640"/>
            <a:ext cx="5688000" cy="3281400"/>
          </a:xfrm>
          <a:prstGeom prst="rect">
            <a:avLst/>
          </a:prstGeom>
          <a:ln w="57240">
            <a:solidFill>
              <a:srgbClr val="0101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FORTALEZ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9120" y="1699920"/>
            <a:ext cx="8229600" cy="18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O SU PASAJE ES CORTO EL SERMÓN PUEDE SER MAS SENCILLO Y MAS FÁCIL DE COMPREN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Imagen 4" descr="ADOLESCENTES"/>
          <p:cNvPicPr/>
          <p:nvPr/>
        </p:nvPicPr>
        <p:blipFill>
          <a:blip r:embed="rId1"/>
          <a:srcRect l="0" t="0" r="0" b="29008"/>
          <a:stretch/>
        </p:blipFill>
        <p:spPr>
          <a:xfrm>
            <a:off x="2268360" y="3511440"/>
            <a:ext cx="57960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DEBILIDA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Cuadro de texto 4"/>
          <p:cNvSpPr/>
          <p:nvPr/>
        </p:nvSpPr>
        <p:spPr>
          <a:xfrm>
            <a:off x="468360" y="1700280"/>
            <a:ext cx="6480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NDE A SER MENOS BIBL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Cuadro de texto 5"/>
          <p:cNvSpPr/>
          <p:nvPr/>
        </p:nvSpPr>
        <p:spPr>
          <a:xfrm>
            <a:off x="433440" y="242100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 FRECUENCIA ES UN SERMÓN TRAMPOLÍ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Cuadro de texto 6"/>
          <p:cNvSpPr/>
          <p:nvPr/>
        </p:nvSpPr>
        <p:spPr>
          <a:xfrm>
            <a:off x="468360" y="357336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USA LA BIBLIA MERAMENTE COMO UN MEDIO DE PARTIDA Y SALE A NAVEGAR POR EL OCÉAN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Cuadro de texto 7"/>
          <p:cNvSpPr/>
          <p:nvPr/>
        </p:nvSpPr>
        <p:spPr>
          <a:xfrm>
            <a:off x="468360" y="5445000"/>
            <a:ext cx="86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ACA QUINCE PALABRA DE LA BIBLIA Y CINCO MIL DEL PREDICAD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CONVINACIONES DE SERM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Cuadro de texto 4"/>
          <p:cNvSpPr/>
          <p:nvPr/>
        </p:nvSpPr>
        <p:spPr>
          <a:xfrm>
            <a:off x="611280" y="234936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 VECES UN SERMÓN PUEDE TERMINAR CON UNA PARTE EXPOSITIVA, OTRAS TEMÁTICAS, OTRAS NARRATIV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Cuadro de texto 5"/>
          <p:cNvSpPr/>
          <p:nvPr/>
        </p:nvSpPr>
        <p:spPr>
          <a:xfrm>
            <a:off x="611280" y="4508640"/>
            <a:ext cx="817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PUEDE HACER ESTO Y NO TENER ERRO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Partes del serm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Introduc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Desarrollo del 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te u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te 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te tr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clus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Llam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Imagen 4" descr="3hand"/>
          <p:cNvPicPr/>
          <p:nvPr/>
        </p:nvPicPr>
        <p:blipFill>
          <a:blip r:embed="rId1"/>
          <a:stretch/>
        </p:blipFill>
        <p:spPr>
          <a:xfrm>
            <a:off x="5219640" y="2205000"/>
            <a:ext cx="347832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362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ÉXITO EN LA PREDICA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Cuadro de texto 4"/>
          <p:cNvSpPr/>
          <p:nvPr/>
        </p:nvSpPr>
        <p:spPr>
          <a:xfrm>
            <a:off x="826920" y="1989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O SOY LA VID VERDADERA Y…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Cuadro de texto 5"/>
          <p:cNvSpPr/>
          <p:nvPr/>
        </p:nvSpPr>
        <p:spPr>
          <a:xfrm>
            <a:off x="826920" y="2981160"/>
            <a:ext cx="69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N MI NADA PODÉIS HAC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Cuadro de texto 7"/>
          <p:cNvSpPr/>
          <p:nvPr/>
        </p:nvSpPr>
        <p:spPr>
          <a:xfrm>
            <a:off x="1116000" y="4365720"/>
            <a:ext cx="6120000" cy="18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4500" spc="-1" strike="noStrike">
                <a:solidFill>
                  <a:srgbClr val="ffffff"/>
                </a:solidFill>
                <a:latin typeface="Tahoma"/>
              </a:rPr>
              <a:t>FIN……</a:t>
            </a: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Imagen 8" descr="JesusLibros"/>
          <p:cNvPicPr/>
          <p:nvPr/>
        </p:nvPicPr>
        <p:blipFill>
          <a:blip r:embed="rId1"/>
          <a:stretch/>
        </p:blipFill>
        <p:spPr>
          <a:xfrm>
            <a:off x="6227640" y="3789360"/>
            <a:ext cx="20178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Imagen 4" descr="Biblia-Esp-38-Mundo-Raza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uadro de texto 4"/>
          <p:cNvSpPr/>
          <p:nvPr/>
        </p:nvSpPr>
        <p:spPr>
          <a:xfrm>
            <a:off x="755640" y="476280"/>
            <a:ext cx="777564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 EL TIEMPO LA PREDICACIÓN LAICA, DESAPARECI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Cuadro de texto 5"/>
          <p:cNvSpPr/>
          <p:nvPr/>
        </p:nvSpPr>
        <p:spPr>
          <a:xfrm>
            <a:off x="684360" y="1798560"/>
            <a:ext cx="8316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CLÉRICOS HICIERON UNA CLARA SEPARACIÓN ENTRE ELLOS Y LOS LAI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Cuadro de texto 6"/>
          <p:cNvSpPr/>
          <p:nvPr/>
        </p:nvSpPr>
        <p:spPr>
          <a:xfrm>
            <a:off x="755640" y="3573360"/>
            <a:ext cx="838836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 EL TIEMPO LLEGO A SUPONERSE QUE SOLO ELLOS PODÍAN PREDICAR Y ENSEÑAR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Cuadro de texto 7"/>
          <p:cNvSpPr/>
          <p:nvPr/>
        </p:nvSpPr>
        <p:spPr>
          <a:xfrm>
            <a:off x="755640" y="5316480"/>
            <a:ext cx="79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FUEGO DE PENTECOSTÉS SE APAG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PREDICACIÓN LAICA EN NUESTRO TIEMPO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Cuadro de texto 7"/>
          <p:cNvSpPr/>
          <p:nvPr/>
        </p:nvSpPr>
        <p:spPr>
          <a:xfrm>
            <a:off x="468360" y="2133720"/>
            <a:ext cx="6119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JUAN WESLEY ORGANIZO GRANDES GRUPOS DE PREDICADORES LAICOS, PARA LLENAR LOS PULPITOS METODI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Cuadro de texto 8"/>
          <p:cNvSpPr/>
          <p:nvPr/>
        </p:nvSpPr>
        <p:spPr>
          <a:xfrm>
            <a:off x="395280" y="4149720"/>
            <a:ext cx="640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UNQUE SABÍAN POCA TEOLOGÍA SENTÍAN QUE ERAN EFECTIVOS PORQUE SU CRISTIANISMO ERA PRACTICO Y EXPERIMEN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Imagen 9" descr="Imagen7"/>
          <p:cNvPicPr/>
          <p:nvPr/>
        </p:nvPicPr>
        <p:blipFill>
          <a:blip r:embed="rId1"/>
          <a:stretch/>
        </p:blipFill>
        <p:spPr>
          <a:xfrm>
            <a:off x="6516720" y="1989000"/>
            <a:ext cx="2627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ffffff"/>
                </a:solidFill>
                <a:uFillTx/>
                <a:latin typeface="Tahoma"/>
              </a:rPr>
              <a:t>MUJERES PREDICADOR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3284280"/>
            <a:ext cx="7715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BOR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JUD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ISCI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BI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Cuadro de texto 4"/>
          <p:cNvSpPr/>
          <p:nvPr/>
        </p:nvSpPr>
        <p:spPr>
          <a:xfrm>
            <a:off x="395280" y="184464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MUJERES HAN DESEMPEÑADO UN PAPEL ACTIVO EN LA OBRA DE SALV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Imagen 6" descr="muj"/>
          <p:cNvPicPr/>
          <p:nvPr/>
        </p:nvPicPr>
        <p:blipFill>
          <a:blip r:embed="rId1"/>
          <a:srcRect l="0" t="0" r="6457" b="4331"/>
          <a:stretch/>
        </p:blipFill>
        <p:spPr>
          <a:xfrm>
            <a:off x="2952720" y="3284640"/>
            <a:ext cx="5940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A NO HAY JUDIO NI GRIEGO, NO HAY ESCLAVO NI LIBRE, NO HAY VARÓN NI MUJER, PORQUE TODO VOSOTROS SON UNO EN CRISTO JESÚS ¨.  GAL. 3: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Imagen 4" descr="Cristo y niños"/>
          <p:cNvPicPr/>
          <p:nvPr/>
        </p:nvPicPr>
        <p:blipFill>
          <a:blip r:embed="rId1"/>
          <a:stretch/>
        </p:blipFill>
        <p:spPr>
          <a:xfrm>
            <a:off x="2843280" y="288756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 u="sng">
                <a:solidFill>
                  <a:srgbClr val="ffffff"/>
                </a:solidFill>
                <a:uFillTx/>
                <a:latin typeface="Tahoma"/>
              </a:rPr>
              <a:t>PREDICADORES LAICOS ADVENTIST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Cuadro de texto 4"/>
          <p:cNvSpPr/>
          <p:nvPr/>
        </p:nvSpPr>
        <p:spPr>
          <a:xfrm>
            <a:off x="395280" y="1989000"/>
            <a:ext cx="6912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GUILLERNO MILL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Cuadro de texto 5"/>
          <p:cNvSpPr/>
          <p:nvPr/>
        </p:nvSpPr>
        <p:spPr>
          <a:xfrm>
            <a:off x="324000" y="2781360"/>
            <a:ext cx="518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MO MUCHOS OTROS PREDICADORES LAICOS RESISTIÓ TERCAMENTE EL LLAMADO A PREDICAR. DURANTE OCHO AÑOS LUCHO CON D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Cuadro de texto 6"/>
          <p:cNvSpPr/>
          <p:nvPr/>
        </p:nvSpPr>
        <p:spPr>
          <a:xfrm>
            <a:off x="250920" y="5013360"/>
            <a:ext cx="4968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UANDO FINALMENTE ACEPTO EL LLAMADO PRODUJO CONVERSIONES DESDE EL MISMO PRINCIP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Imagen 7" descr="Jesús muestra el camino"/>
          <p:cNvPicPr/>
          <p:nvPr/>
        </p:nvPicPr>
        <p:blipFill>
          <a:blip r:embed="rId1"/>
          <a:stretch/>
        </p:blipFill>
        <p:spPr>
          <a:xfrm>
            <a:off x="5400720" y="1989000"/>
            <a:ext cx="356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OS LAICOS QUE HAN RECIBIDO EL DON DE LA PREDICACIÓN, DEL CUAL SUS PASTORES CARECEN, SON RESPONSABLE DE USARLOS DELANTE DE DIO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Imagen 4" descr="Imagen6"/>
          <p:cNvPicPr/>
          <p:nvPr/>
        </p:nvPicPr>
        <p:blipFill>
          <a:blip r:embed="rId1"/>
          <a:stretch/>
        </p:blipFill>
        <p:spPr>
          <a:xfrm>
            <a:off x="1908000" y="2852640"/>
            <a:ext cx="549756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3T09:30:25Z</dcterms:created>
  <dc:creator>Fernando Toala</dc:creator>
  <dc:description/>
  <dc:language>en-US</dc:language>
  <cp:lastModifiedBy>Ney Devis</cp:lastModifiedBy>
  <dcterms:modified xsi:type="dcterms:W3CDTF">2010-06-07T13:18:56Z</dcterms:modified>
  <cp:revision>8</cp:revision>
  <dc:subject/>
  <dc:title>Diapositiva 1</dc:title>
</cp:coreProperties>
</file>